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74B2-1867-48CB-BA2D-676FF8A452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6A4D-B0F7-4AA8-925B-9F7A3A53A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FB59-D6CB-4822-BCCE-A2F0BC9F1A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87A0-904D-4DB1-89E5-E36984FDBF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F240-EB29-429B-B6B9-1EAFF7AE5D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886B-CA42-410F-9130-E2B320D2AF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EACA-C80E-4EC0-BA8B-C89890269D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51A3-3F5E-4CAD-80A3-A10FA96E41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A72-2650-43B4-84CE-B5543ED2BE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1ABD-0ACE-4914-8C5B-4B34ABFE15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A014-5D54-42A3-B5DD-1DCF08F7FF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1BFF-E906-440A-AE29-0FFE7828F4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ED99-7DAF-4E12-8416-720285ABE8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FFBC-1D62-4E3C-AA00-41A45CE62D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602-6883-459B-B261-F9228282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E1D-3F92-4386-AE16-AE6893DC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022-F401-4224-954F-DA371D08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BAC-4E5F-4227-8ACA-FA23EF5A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7C1-FCD9-46D7-A5E3-F761ECA5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4FD-4ECB-4B27-A795-007346C3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27C-A7CE-4B4A-9244-8493B56B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66A-AD79-4975-94CA-2A1ED13C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370-9209-42F3-8CE9-0FFE4C86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69E-1081-4D84-AE9F-6D43A7AB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6ED-4DD4-40A4-B1A5-EBAFB0D5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03A-2A13-4D17-8CC6-84BCB9BB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nternal_bkgd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9200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CC80-4C66-44D7-B443-CFEA90CF1299}" type="datetime">
              <a:rPr b="0" lang="ja-JP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3836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B73A-F22B-4239-B05D-C7A8A89BA8D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Internal_title_base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608040" y="623412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over_back_8"/>
          <p:cNvPicPr/>
          <p:nvPr/>
        </p:nvPicPr>
        <p:blipFill>
          <a:blip r:embed="rId3"/>
          <a:stretch/>
        </p:blipFill>
        <p:spPr>
          <a:xfrm>
            <a:off x="0" y="1978200"/>
            <a:ext cx="91440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923760" y="4572000"/>
            <a:ext cx="7294680" cy="590400"/>
            <a:chOff x="923760" y="4572000"/>
            <a:chExt cx="7294680" cy="590400"/>
          </a:xfrm>
        </p:grpSpPr>
        <p:pic>
          <p:nvPicPr>
            <p:cNvPr id="46" name="Picture 6" descr="icon_1"/>
            <p:cNvPicPr/>
            <p:nvPr/>
          </p:nvPicPr>
          <p:blipFill>
            <a:blip r:embed="rId4"/>
            <a:stretch/>
          </p:blipFill>
          <p:spPr>
            <a:xfrm>
              <a:off x="9237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7" descr="icon_5"/>
            <p:cNvPicPr/>
            <p:nvPr/>
          </p:nvPicPr>
          <p:blipFill>
            <a:blip r:embed="rId5"/>
            <a:stretch/>
          </p:blipFill>
          <p:spPr>
            <a:xfrm>
              <a:off x="2597040" y="4572000"/>
              <a:ext cx="5904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8" descr="icon_2"/>
            <p:cNvPicPr/>
            <p:nvPr/>
          </p:nvPicPr>
          <p:blipFill>
            <a:blip r:embed="rId6"/>
            <a:stretch/>
          </p:blipFill>
          <p:spPr>
            <a:xfrm>
              <a:off x="7627680" y="4572000"/>
              <a:ext cx="5907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icon_3"/>
            <p:cNvPicPr/>
            <p:nvPr/>
          </p:nvPicPr>
          <p:blipFill>
            <a:blip r:embed="rId7"/>
            <a:stretch/>
          </p:blipFill>
          <p:spPr>
            <a:xfrm>
              <a:off x="427968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" descr="icon_4"/>
            <p:cNvPicPr/>
            <p:nvPr/>
          </p:nvPicPr>
          <p:blipFill>
            <a:blip r:embed="rId8"/>
            <a:stretch/>
          </p:blipFill>
          <p:spPr>
            <a:xfrm>
              <a:off x="59529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\\glbfs14\sw_releases\Wireless_Global_Tools\Tool_Release\SP_Drivers\InUse\UART\FTDI" TargetMode="External"/><Relationship Id="rId2" Type="http://schemas.openxmlformats.org/officeDocument/2006/relationships/hyperlink" Target="\\glbfs14\sw_releases\Wireless_Global_Tools\Tool_Release\SP_Drivers\InUse\UART\Prolifi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9600" y="27018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iver installation for SP BSP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724360" y="5621400"/>
            <a:ext cx="31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SimHei"/>
              </a:rPr>
              <a:t>MBJ_WCP2OSS5_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81CF-57D1-4D9C-BE21-43567896C5EB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CE9B-2874-4C29-93EF-FBD102A9F30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22440" y="1071720"/>
            <a:ext cx="8270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ninstall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plug devices which connect with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un Remove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bat.png"/>
          <p:cNvPicPr/>
          <p:nvPr/>
        </p:nvPicPr>
        <p:blipFill>
          <a:blip r:embed="rId1"/>
          <a:stretch/>
        </p:blipFill>
        <p:spPr>
          <a:xfrm>
            <a:off x="2000160" y="2643120"/>
            <a:ext cx="30574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CDE0-3682-4A3F-85D7-573D05728940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9DF6-1070-41DE-8E03-C31CDF4ED1E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2440" y="1071720"/>
            <a:ext cx="82706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A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標楷體"/>
              </a:rPr>
              <a:t>Install driver listed 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FTDI driver (For 2 in 1 c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標楷體"/>
                <a:hlinkClick r:id="rId1"/>
              </a:rPr>
              <a:t>\\glbfs14\sw_releases\Wireless_Global_Tools\Tool_Release\SP_Drivers\InUse\UART\FT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Prolific driver (For 3 in 1 c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標楷體"/>
                <a:hlinkClick r:id="rId2"/>
              </a:rPr>
              <a:t>\\glbfs14\sw_releases\Wireless_Global_Tools\Tool_Release\SP_Drivers\InUse\UART\Prol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F741-4A4C-49A3-8129-E608594A36A9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EC5A-908A-4ACF-835E-2B375941C5A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Append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Details in installatio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Bootloader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BootROM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Preloader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DA HS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Kerne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ADB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ACM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NDIS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MTP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5"/>
          <p:cNvSpPr/>
          <p:nvPr/>
        </p:nvSpPr>
        <p:spPr>
          <a:xfrm>
            <a:off x="3203280" y="328284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Hei"/>
              </a:rPr>
              <a:t>www.mediate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70B0-3B07-4027-9C63-F0D14DF00A44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C329-D4CF-4B40-A7ED-1B4D12DA273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Re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28800" y="1214280"/>
          <a:ext cx="7572240" cy="2308320"/>
        </p:xfrm>
        <a:graphic>
          <a:graphicData uri="http://schemas.openxmlformats.org/drawingml/2006/table">
            <a:tbl>
              <a:tblPr/>
              <a:tblGrid>
                <a:gridCol w="1071360"/>
                <a:gridCol w="1285920"/>
                <a:gridCol w="52149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Content &amp; Mod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V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2012/06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Draft ver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V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2012/09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Use DPInst to install dr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Integrate signed and unsigned drivers into 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Integrate SP_Drivers_v1.5 (Kernel driv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3646-0C24-48B9-BA23-946F8432AD07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1322-FB63-4832-8841-C885EE72E5D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Uninstall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ART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E9C7-65EB-4887-BB01-8E4EA44C9F84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F869-E4EF-4995-ACBE-C1FFFB6B30A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To simplify procedure of driver installation when using SP BSP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Scope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SP Flash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Maui META tool / SP META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Key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ternal RD &amp; 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5617-147D-46D1-B461-9C9733F56774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C682-4E2D-498E-8B94-B38C0B13F16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plug devices which connect with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Uncompress package of driver auto ins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un Install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bat.png"/>
          <p:cNvPicPr/>
          <p:nvPr/>
        </p:nvPicPr>
        <p:blipFill>
          <a:blip r:embed="rId1"/>
          <a:stretch/>
        </p:blipFill>
        <p:spPr>
          <a:xfrm>
            <a:off x="2000160" y="2928960"/>
            <a:ext cx="30574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83EC-1A31-491F-ADCB-324330B8F129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83E9-9E70-4CDD-832D-6BD8F7EE4A5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If warning prompt shown about unsigned drivers installation, please confirm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rompt.PNG"/>
          <p:cNvPicPr/>
          <p:nvPr/>
        </p:nvPicPr>
        <p:blipFill>
          <a:blip r:embed="rId1"/>
          <a:stretch/>
        </p:blipFill>
        <p:spPr>
          <a:xfrm>
            <a:off x="4357800" y="2928960"/>
            <a:ext cx="4572000" cy="2959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install_sign.png"/>
          <p:cNvPicPr/>
          <p:nvPr/>
        </p:nvPicPr>
        <p:blipFill>
          <a:blip r:embed="rId2"/>
          <a:stretch/>
        </p:blipFill>
        <p:spPr>
          <a:xfrm>
            <a:off x="357120" y="2928960"/>
            <a:ext cx="3814920" cy="2955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2786040" y="5608800"/>
            <a:ext cx="714240" cy="2142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715000" y="5000760"/>
            <a:ext cx="3071880" cy="5713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1500120" y="2500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6000840" y="25002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7C6D-2B20-4E41-B499-115DA47DF523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B754-4A42-477C-9EC4-9FA76D72C54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Wait a moment till prompt of installation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Complete.PNG"/>
          <p:cNvPicPr/>
          <p:nvPr/>
        </p:nvPicPr>
        <p:blipFill>
          <a:blip r:embed="rId1"/>
          <a:stretch/>
        </p:blipFill>
        <p:spPr>
          <a:xfrm>
            <a:off x="4429080" y="2928960"/>
            <a:ext cx="438804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install.png"/>
          <p:cNvPicPr/>
          <p:nvPr/>
        </p:nvPicPr>
        <p:blipFill>
          <a:blip r:embed="rId2"/>
          <a:stretch/>
        </p:blipFill>
        <p:spPr>
          <a:xfrm>
            <a:off x="357120" y="2928960"/>
            <a:ext cx="3786120" cy="2916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1500120" y="2500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6000840" y="25002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6801-5DC1-446D-8E2C-2EC0FA30B50B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95C7-75DC-4DCF-A19D-FB6170CB473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Run tool and plug device into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For signed driver (Details in append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ONLY a small prompt may appear on system tray, OS will recognize it and make it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systray.PNG"/>
          <p:cNvPicPr/>
          <p:nvPr/>
        </p:nvPicPr>
        <p:blipFill>
          <a:blip r:embed="rId1"/>
          <a:stretch/>
        </p:blipFill>
        <p:spPr>
          <a:xfrm>
            <a:off x="4357800" y="3929040"/>
            <a:ext cx="3238560" cy="924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igned_pop.png"/>
          <p:cNvPicPr/>
          <p:nvPr/>
        </p:nvPicPr>
        <p:blipFill>
          <a:blip r:embed="rId2"/>
          <a:stretch/>
        </p:blipFill>
        <p:spPr>
          <a:xfrm>
            <a:off x="1857240" y="3929040"/>
            <a:ext cx="1543320" cy="8002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8"/>
          <p:cNvSpPr/>
          <p:nvPr/>
        </p:nvSpPr>
        <p:spPr>
          <a:xfrm>
            <a:off x="2071800" y="3429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5500800" y="3429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E9AE-B9C0-4BC7-884A-BFC095BDE84D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80D5-BFFB-4FC4-A156-E1D19AFD709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For unsigned driver (Details in append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A small prompt may appear on system tray, be similar to signed driver, OS will search matched driver automatically (Win 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A dialog will be pop up to driver installation, user should click auto installation, if unsigned prompt shown, please confirm it (Win 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unsigned_pop.png"/>
          <p:cNvPicPr/>
          <p:nvPr/>
        </p:nvPicPr>
        <p:blipFill>
          <a:blip r:embed="rId1"/>
          <a:stretch/>
        </p:blipFill>
        <p:spPr>
          <a:xfrm>
            <a:off x="357120" y="3643200"/>
            <a:ext cx="2714760" cy="19782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1357200" y="4889520"/>
            <a:ext cx="85752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071800" y="5429160"/>
            <a:ext cx="50004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unsigned_pop2.png"/>
          <p:cNvPicPr/>
          <p:nvPr/>
        </p:nvPicPr>
        <p:blipFill>
          <a:blip r:embed="rId2"/>
          <a:stretch/>
        </p:blipFill>
        <p:spPr>
          <a:xfrm>
            <a:off x="3357720" y="3643200"/>
            <a:ext cx="2662200" cy="200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unsigned_pop3.png"/>
          <p:cNvPicPr/>
          <p:nvPr/>
        </p:nvPicPr>
        <p:blipFill>
          <a:blip r:embed="rId3"/>
          <a:stretch/>
        </p:blipFill>
        <p:spPr>
          <a:xfrm>
            <a:off x="6286680" y="3643200"/>
            <a:ext cx="2738160" cy="2000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2"/>
          <p:cNvSpPr/>
          <p:nvPr/>
        </p:nvSpPr>
        <p:spPr>
          <a:xfrm>
            <a:off x="4000680" y="31431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4071960" y="5472000"/>
            <a:ext cx="50004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8045280" y="5443560"/>
            <a:ext cx="50040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0:39:15Z</dcterms:created>
  <dc:creator>MTK</dc:creator>
  <dc:description/>
  <cp:keywords>Internal Use</cp:keywords>
  <dc:language>en-US</dc:language>
  <cp:lastModifiedBy>mediatek</cp:lastModifiedBy>
  <dcterms:modified xsi:type="dcterms:W3CDTF">2012-10-09T01:43:53Z</dcterms:modified>
  <cp:revision>1033</cp:revision>
  <dc:subject/>
  <dc:title>投影片 0</dc:title>
</cp:coreProperties>
</file>